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C7D041-B3F2-4F6E-AC96-B56B4ABD6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B98196-A5A6-4672-9B56-3B3666D73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D5793-3BFF-4751-9DC2-D1562A5A9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85AB5-167D-4151-8A82-F1A40BD13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5F26C-3B87-414E-A66C-C4435F1F4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07B3-198C-47E2-BB1E-55C0E8515D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E03C-C6C9-4013-BFD5-21E3EF7AE9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708EA-7A54-48ED-8C6F-3161E438A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6BE9-57AB-4F7E-AEF8-9DD85A4FD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A0FFC-FFBA-4057-A333-288953F6F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514C8-0E14-4E72-BC4C-7CABA8FBE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F18A4-9A90-4783-BCC7-E6066854C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2F655-81F0-40DC-B61F-3357A927A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12E9-E74E-414E-8139-F1C7FC655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97341E-9C79-4B74-981B-BE0986CC04B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adia Udd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Sadia Udd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Ver fotos de Sadia Uddi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666880"/>
            <a:ext cx="1600200" cy="1800"/>
          </a:xfrm>
          <a:prstGeom prst="line">
            <a:avLst/>
          </a:prstGeom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Enviar mensaje a Sadia Uddi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Golpea a Sadia Udd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2895480"/>
            <a:ext cx="1600200" cy="1800"/>
          </a:xfrm>
          <a:prstGeom prst="line">
            <a:avLst/>
          </a:prstGeom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3124080"/>
            <a:ext cx="1600200" cy="1800"/>
          </a:xfrm>
          <a:prstGeom prst="line">
            <a:avLst/>
          </a:prstGeom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1143000"/>
            <a:ext cx="838080" cy="215640"/>
          </a:xfrm>
          <a:prstGeom prst="rect">
            <a:avLst/>
          </a:prstGeom>
          <a:solidFill>
            <a:srgbClr val="d9dce7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cap="sq"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3352680"/>
            <a:ext cx="1600200" cy="1800"/>
          </a:xfrm>
          <a:prstGeom prst="line">
            <a:avLst/>
          </a:prstGeom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5181480"/>
            <a:ext cx="1600200" cy="1800"/>
          </a:xfrm>
          <a:prstGeom prst="line">
            <a:avLst/>
          </a:prstGeom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mi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3581280"/>
            <a:ext cx="16002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Mi nombre es Sadia Uddin. Yo tengo catorce años y vivo en New York. Yo soy joven y amo Uno Dirección y música. Yo soy tímida pero divertida. Yo soy encantadora y entusiástica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 no antipática.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 estoy activa y no triste.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6400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na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293120" y="5562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hfooz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3886200"/>
            <a:ext cx="3886200" cy="609480"/>
          </a:xfrm>
          <a:prstGeom prst="rect">
            <a:avLst/>
          </a:prstGeom>
          <a:solidFill>
            <a:srgbClr val="d9dce7"/>
          </a:solidFill>
          <a:ln cap="sq"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        </a:t>
            </a: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Sad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emos que ir a en las 12 horas. Son las doce de la tarde cuando lo empiez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 tienes a comer tu popcorn. Quiero comer mucha chocolates. Nosotras estam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ve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 gueta:  </a:t>
            </a:r>
            <a:r>
              <a:rPr b="0" lang="es-ES" sz="700" spc="-1" strike="noStrike">
                <a:solidFill>
                  <a:srgbClr val="343434"/>
                </a:solidFill>
                <a:latin typeface="Arial"/>
                <a:ea typeface="ＭＳ Ｐゴシック"/>
              </a:rPr>
              <a:t>Commentario </a:t>
            </a:r>
            <a:r>
              <a:rPr b="0" lang="es-E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 10 seconds ago.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cembre</a:t>
            </a:r>
            <a:r>
              <a:rPr b="0" lang="es-ES" sz="700" spc="-1" strike="noStrike">
                <a:solidFill>
                  <a:srgbClr val="343434"/>
                </a:solidFill>
                <a:latin typeface="Arial"/>
                <a:ea typeface="ＭＳ Ｐゴシック"/>
              </a:rPr>
              <a:t> 5, de 2012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3200400"/>
            <a:ext cx="3886200" cy="609480"/>
          </a:xfrm>
          <a:prstGeom prst="rect">
            <a:avLst/>
          </a:prstGeom>
          <a:solidFill>
            <a:srgbClr val="d9dce7"/>
          </a:solidFill>
          <a:ln cap="sq"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Nouree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Buenos dias, Sadia.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í, ¿a qué hora? Usted necesita su dinero y y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sesita mis dineros. Podemos ir compras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mbié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:   30 minutes ago.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cembre</a:t>
            </a:r>
            <a:r>
              <a:rPr b="0" lang="es-ES" sz="700" spc="-1" strike="noStrike">
                <a:solidFill>
                  <a:srgbClr val="343434"/>
                </a:solidFill>
                <a:latin typeface="Arial"/>
              </a:rPr>
              <a:t> 5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2438280"/>
            <a:ext cx="3886200" cy="685800"/>
          </a:xfrm>
          <a:prstGeom prst="rect">
            <a:avLst/>
          </a:prstGeom>
          <a:solidFill>
            <a:srgbClr val="d9dce7"/>
          </a:solidFill>
          <a:ln cap="sq"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Sad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Buenas tard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Noureen! ¿Puedes ir al cine? La cine están al final de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loque.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" sz="700" spc="-1" strike="noStrike">
                <a:solidFill>
                  <a:srgbClr val="343434"/>
                </a:solidFill>
                <a:latin typeface="Arial"/>
              </a:rPr>
              <a:t>Te guesta : Commentario:      1 hour ago.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cembre</a:t>
            </a:r>
            <a:r>
              <a:rPr b="0" lang="es-ES" sz="700" spc="-1" strike="noStrike">
                <a:solidFill>
                  <a:srgbClr val="343434"/>
                </a:solidFill>
                <a:latin typeface="Arial"/>
              </a:rPr>
              <a:t> 5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4572000"/>
            <a:ext cx="3886200" cy="533520"/>
          </a:xfrm>
          <a:prstGeom prst="rect">
            <a:avLst/>
          </a:prstGeom>
          <a:solidFill>
            <a:srgbClr val="d9dce7"/>
          </a:solidFill>
          <a:ln cap="sq"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Noureen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ios, Te veré ha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  12  minutes ago   Dicembre 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5181480"/>
            <a:ext cx="3886200" cy="685800"/>
          </a:xfrm>
          <a:prstGeom prst="rect">
            <a:avLst/>
          </a:prstGeom>
          <a:solidFill>
            <a:srgbClr val="d9dce7"/>
          </a:solidFill>
          <a:ln cap="sq"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              Sad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la dio una hoja y él dio una hoja también. Sus tarea es fácil y ell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ga es divertida. Nosotras somos buena estudiantes. Haces su tarea tambié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e guesta:      </a:t>
            </a:r>
            <a:r>
              <a:rPr b="0" lang="es-ES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  1 minute ago       Dicembre 6, de 2012 </a:t>
            </a:r>
            <a:r>
              <a:rPr b="0" lang="es-ES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943600"/>
            <a:ext cx="3886200" cy="685800"/>
          </a:xfrm>
          <a:prstGeom prst="rect">
            <a:avLst/>
          </a:prstGeom>
          <a:solidFill>
            <a:srgbClr val="d9dce7"/>
          </a:solidFill>
          <a:ln cap="sq"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Mahfooz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uál es la tare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" sz="700" spc="-1" strike="noStrike">
                <a:solidFill>
                  <a:srgbClr val="343434"/>
                </a:solidFill>
                <a:latin typeface="Arial"/>
              </a:rPr>
              <a:t>Te guesta: Commentario 5 sceonds ago       Dicembre 7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1905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a! ¿Cómo estás ustede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5520" y="5715000"/>
            <a:ext cx="44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280" y="6019920"/>
            <a:ext cx="533520" cy="398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85800" y="5334120"/>
            <a:ext cx="609480" cy="407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371600" y="5334120"/>
            <a:ext cx="601560" cy="401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057400" y="3276720"/>
            <a:ext cx="609480" cy="407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6320" y="5334120"/>
            <a:ext cx="533160" cy="399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2133720" y="6095880"/>
            <a:ext cx="601560" cy="401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2057400" y="4648320"/>
            <a:ext cx="609480" cy="407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-457200" y="414360"/>
            <a:ext cx="2819520" cy="1884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1981080" y="2438280"/>
            <a:ext cx="914400" cy="611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1981080" y="3886200"/>
            <a:ext cx="914400" cy="611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1981080" y="5334120"/>
            <a:ext cx="914400" cy="61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26:25Z</dcterms:created>
  <dc:creator>FriscoISD</dc:creator>
  <dc:description/>
  <dc:language>en-US</dc:language>
  <cp:lastModifiedBy>NYCDOE</cp:lastModifiedBy>
  <dcterms:modified xsi:type="dcterms:W3CDTF">2012-12-07T14:06:27Z</dcterms:modified>
  <cp:revision>117</cp:revision>
  <dc:subject/>
  <dc:title>Profile</dc:title>
</cp:coreProperties>
</file>